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7CD-46DE-43B3-AF2E-E48D31B2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8E9-5644-4F47-8877-4D1F8DC0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406A6-ACF4-4134-9E27-A3A2A87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6C0CA-22BA-4008-AD96-0F5D595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FF9E2A-92D7-4F99-9E99-3F86CF0B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73E1D-FE4D-4850-9236-D8BC341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D3F52-E321-436D-B38B-5D1163E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C0A47A-EFEE-467E-983B-B8A7ED5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B0FCE-265C-45D4-A74D-5535B7BF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16AFD-707A-4AB4-B6B7-FE72F50D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ED60A-B16B-4590-87F0-7714383F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AA9-AA24-4F2A-A640-4532E094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F70-FDAB-4B7C-BFC9-EBC0773A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DCD7D-B6E4-47F0-8D9D-0C8E9F7D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47B85-78A5-4761-9CBC-3D35356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42B3-28ED-4F50-930B-3BE03067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358F1-55F4-4CEA-AF9A-02A687A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79289-F157-4B5C-B384-869C49BC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3FD6-43DB-4CC0-BD42-3346B0D2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6ED26-5EB5-4C48-8AFE-31310DE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688-32CB-4391-82A8-066F162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5992F-C720-4D7C-AC1B-5442996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3415E-04B0-40F0-9B45-52A82BE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74EA-9571-4DA1-94B6-5974C673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9061F-7B4E-45A7-A074-A38D035F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C42B1-0385-4E58-9736-C2112296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6A99-0A3F-4CA2-960E-A5E2B7E3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599B-5B56-4CC8-ADBD-FA71F734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DA6C-5F5E-4E4D-9C28-3145755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C914-F90B-40AD-AE79-F8D29CD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8AD3-586B-4044-AEC8-D3761443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AD5-7AD6-4F51-8EEE-E05539A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8D01-B16D-46BC-9813-6E27C61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F8DF-8073-4871-89D8-41286BA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199E-9D2C-4A84-89BA-6D71D8A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1A17-2877-4970-932D-C11C54C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D43E-C451-4A6C-882A-A4EADF72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2B73D-D971-47B9-8BFA-04B7CCA4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EFE9-8D68-4D57-BFE8-A7D45743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B9BEB-1B03-4459-B8C5-9E208968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12C25-2342-4B08-B80B-9BFFDD5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DFCCB-2BC7-41B3-BF0E-31AEA292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33F-5223-479C-A42D-3ABC767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955D5-ADC5-4133-944D-90F54226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50DED-0193-4AA5-81B1-02BBFE34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FCA03-8E8A-4673-8CB5-C850E55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52B1C-FA3B-4B44-81FD-A5AD6F2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66CD8-5918-4774-BB35-A3F72CEE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06066-1F07-493E-8D91-673B462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7D000-F6CC-4C7D-ACF2-ACB187D6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85570-A322-46DF-9847-8F8D9A96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DBB93-74CE-4064-8B0E-69B5DAFB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1832-1867-4F0C-880F-625B9FA3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1BD-6FD5-44FD-8607-A5F39436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1088-46EF-40DE-A193-1F2DB8E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DC19-50B6-4008-AA9C-86EF3AC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C70A-2A3E-440D-BB25-A6D8518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E11D-8F6D-4047-90E1-B19112E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236E-08BA-4554-B7E8-AD48A2F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776A-D9EC-4762-8FBF-91AD2B5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85BE-83D7-440B-976B-6D93E939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EBA7-92BD-4BF3-8AEC-F21CB8D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EB54-75D6-41AC-8DA9-FC286450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94EC-3C04-464D-AED6-882B339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50F-C18B-4DBF-A38A-12DBB423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DD5B-B14B-49A1-8585-A52F32EB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DB4B-1942-4351-B52D-2E7AE9D9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124ED-E9E6-4284-A9A9-B36DA18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2A73-2996-4E90-92B9-DA99FBB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BE2E-A637-4B09-BBC8-8BDD38D9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3821-6751-4DDE-8245-36F93D5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A460A-E86E-4D3C-AC1A-8B0362AB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1787-3D86-4547-8FE3-AC8179F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E9EA-D76F-4D9F-A2D4-2EE25EB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7ADA-0D8B-489D-B1CF-863CB69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FA2-7FC2-4F01-9D4F-59A2F9CB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DB16-36E6-4F28-9902-2942B175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C183-F8F8-4D0B-AF6A-C76777AE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E32D-EFD9-4680-A55C-BECD37B3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103B-02AD-47B7-B885-99C2BE1B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4020-C7D3-4FF2-A454-5DB38C09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823C-61D6-4A00-A285-D830C01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96868-EEE7-48E5-9EB5-11DA517A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8ADD-B7F8-4CBB-87CE-7DDC385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6348-4AAD-4F01-8305-8EBC4C0D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D538-1A88-440D-BBAB-613B9FB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9F2-066C-406C-8F70-D53F092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D802-820C-40DD-A102-0A11A91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2272-8E6C-4824-B20A-77EA243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D30A-EC61-4E90-ACA0-DB5B0E99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16A1-D419-4EAD-9A32-CAC4DF69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0F97F-E2A5-4BEF-8C61-6CA997E7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BCA1A-2903-4173-85AC-5F175DFF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DC899-72B5-4BCB-A8E8-0788E5C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61A22-3892-4102-887D-34DEB4B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5F919-1F1F-4B92-BE38-92AE4F3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F35DD-8B19-416D-A20D-FF3305A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336-3F58-4D5A-ABEA-77B80F1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2E1E1-A460-40C7-856E-E64FCAF2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57B29-70FF-41FF-8B84-0943775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FFC8A-020D-4B7B-B97F-A7D467F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A15922-83C8-4D24-87FB-47C2CB3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B9ECD-43EB-4276-AF2F-58303256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FC4A88-62F3-49F8-8A81-299962FB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DAE36-852F-49A1-9AD2-55D0125D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FF623F-9AF2-46C8-811D-993EAADE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8004C-9983-4F57-872A-9BA9857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AC8E0-32F8-4F13-8440-FD648ED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2C9-D2F0-4AFF-BC01-CF16D8DC3B76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C6F7-C7D1-43BD-9204-811BFD907B45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655-4BDD-47B1-A775-CD32F344F957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5AF0-1BAE-4646-9B7C-2E96437D4A62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9FA-6479-4C03-ACFF-8398B7B16EC2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1D4C-7314-42D6-9B00-7C10CBC8A4CB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84D-764C-4B40-9FDE-C88B54E3AAF3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6ea0b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4F6-CFB3-4303-939F-723D487E1502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8d89a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D87C-4DD9-4961-90F3-C7313500225D}" type="slidenum">
              <a:rPr b="0" lang="en-US" sz="16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55828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562360" y="2742840"/>
            <a:ext cx="373356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lease take out your 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Napoleon evidence sheet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Literacy Warm-Up shee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see below projector scree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n say hi to your neighbor! Ask them about their weekend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77760" y="228600"/>
            <a:ext cx="55609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1523880" y="1644480"/>
            <a:ext cx="6189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Groups of 3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– Skip Chapter 3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Groups of 5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– Two people will work on Chapter 4, those two must choose one of these additional options each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Person #1: Create a visual for the book cover and write 2 “reviews” of the storybook on the back cover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Person #2:  Create an additional visual for EACH of the other chapters (1-3, 5)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ACH PERSON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should come to class on Wednesday, Nov. 16 with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n outlin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DRAFT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of their individual chapter, with some good detail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n idea of what visual you will create for your chapter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readiness to WORK!  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his will be your only time in the computer lab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2"/>
          <a:stretch/>
        </p:blipFill>
        <p:spPr>
          <a:xfrm>
            <a:off x="450720" y="-66600"/>
            <a:ext cx="8620200" cy="147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4"/>
          <a:stretch/>
        </p:blipFill>
        <p:spPr>
          <a:xfrm>
            <a:off x="1523880" y="1644480"/>
            <a:ext cx="6189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26960" y="249120"/>
            <a:ext cx="8564760" cy="1165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047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28040" cy="17877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 Assessment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rench Revolution Storyboo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2"/>
          <a:srcRect l="0" t="0" r="0" b="43211"/>
          <a:stretch/>
        </p:blipFill>
        <p:spPr>
          <a:xfrm>
            <a:off x="762120" y="3276720"/>
            <a:ext cx="76197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dc8c4"/>
                </a:solidFill>
                <a:latin typeface="Rockwell"/>
              </a:rPr>
              <a:t>Stretch Break!</a:t>
            </a:r>
            <a:endParaRPr b="0" lang="en-US" sz="4600" spc="-1" strike="noStrike">
              <a:solidFill>
                <a:srgbClr val="cdc8c4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219320" y="1596960"/>
            <a:ext cx="64767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28040" cy="1787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 Assessment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rench Revolution Storyboo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762120" y="3276720"/>
            <a:ext cx="76197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530280" y="-9684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1523880" y="1644480"/>
            <a:ext cx="6189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your FALL buddy. If your Fall Buddy is not here, come to the front of the roo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ke a Disney Villain card. ONE per pa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1066680" y="228600"/>
            <a:ext cx="4800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th your Fall Buddy… Look at your Disney Villain card… you and your Buddy find a different pair according to EITHER suit or value of your ca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The pair with the KING of CLUBS (Captain Hook, clubs) can match up with a pair that has another KING (Captain Hook of a different suit) or ANY CLUB (ace, queen, jack, ten, etc…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1066680" y="228600"/>
            <a:ext cx="4800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th your Fall Buddy… Look at your Disney Villain card… you and your Buddy find a different pair according to EITHER suit or value of your ca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400"/>
              </a:spcBef>
              <a:buClr>
                <a:srgbClr val="ccaf0a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:  The pair with the KING of CLUBS (Captain Hook, clubs) can match up with a pair that has another KING (Captain Hook of a different suit) or ANY CLUB (ace, queen, jack, ten, etc…)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his will be your project group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6ea0b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3"/>
          <a:srcRect l="0" t="0" r="0" b="43211"/>
          <a:stretch/>
        </p:blipFill>
        <p:spPr>
          <a:xfrm>
            <a:off x="1066680" y="228600"/>
            <a:ext cx="4800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0:32:44Z</dcterms:created>
  <dc:creator>Meri</dc:creator>
  <dc:description/>
  <dc:language>en-US</dc:language>
  <cp:lastModifiedBy>MCPASD</cp:lastModifiedBy>
  <dcterms:modified xsi:type="dcterms:W3CDTF">2011-11-14T15:09:48Z</dcterms:modified>
  <cp:revision>14</cp:revision>
  <dc:subject/>
  <dc:title>Happy  Monday!</dc:title>
</cp:coreProperties>
</file>